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9.jpeg" ContentType="image/jpeg"/>
  <Override PartName="/ppt/media/image42.jpeg" ContentType="image/jpeg"/>
  <Override PartName="/ppt/media/image20.gif" ContentType="image/gif"/>
  <Override PartName="/ppt/media/image13.png" ContentType="image/png"/>
  <Override PartName="/ppt/media/image18.gif" ContentType="image/gif"/>
  <Override PartName="/ppt/media/image21.jpeg" ContentType="image/jpeg"/>
  <Override PartName="/ppt/media/chimes.wav" ContentType="audio/x-wav"/>
  <Override PartName="/ppt/media/image29.png" ContentType="image/png"/>
  <Override PartName="/ppt/media/image32.wmf" ContentType="image/x-wmf"/>
  <Override PartName="/ppt/media/image17.gif" ContentType="image/gif"/>
  <Override PartName="/ppt/media/image16.jpeg" ContentType="image/jpeg"/>
  <Override PartName="/ppt/media/image39.gif" ContentType="image/gif"/>
  <Override PartName="/ppt/media/image15.gif" ContentType="image/gif"/>
  <Override PartName="/ppt/media/image11.wmf" ContentType="image/x-wmf"/>
  <Override PartName="/ppt/media/image36.jpeg" ContentType="image/jpeg"/>
  <Override PartName="/ppt/media/image9.jpeg" ContentType="image/jpeg"/>
  <Override PartName="/ppt/media/image10.jpeg" ContentType="image/jpeg"/>
  <Override PartName="/ppt/media/image30.gif" ContentType="image/gif"/>
  <Override PartName="/ppt/media/image35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28.gif" ContentType="image/gif"/>
  <Override PartName="/ppt/media/image31.gif" ContentType="image/gif"/>
  <Override PartName="/ppt/media/image44.jpeg" ContentType="image/jpeg"/>
  <Override PartName="/ppt/media/image34.gif" ContentType="image/gif"/>
  <Override PartName="/ppt/media/image37.jpeg" ContentType="image/jpeg"/>
  <Override PartName="/ppt/media/image38.gif" ContentType="image/gif"/>
  <Override PartName="/ppt/media/image40.gif" ContentType="image/gif"/>
  <Override PartName="/ppt/media/image43.wmf" ContentType="image/x-wmf"/>
  <Override PartName="/ppt/media/image6.png" ContentType="image/png"/>
  <Override PartName="/ppt/media/image26.gif" ContentType="image/gif"/>
  <Override PartName="/ppt/media/image3.gif" ContentType="image/gif"/>
  <Override PartName="/ppt/media/image33.gif" ContentType="image/gif"/>
  <Override PartName="/ppt/media/image12.jpeg" ContentType="image/jpeg"/>
  <Override PartName="/ppt/media/image41.gif" ContentType="image/gif"/>
  <Override PartName="/ppt/media/image4.png" ContentType="image/png"/>
  <Override PartName="/ppt/media/image24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D13-D505-4861-BFF3-AFF8C5CB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A71-BD3F-47D0-BEC1-8B7C40D9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48D-62A3-4B2D-85BF-353C5FCD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265-2DD8-4605-B392-85B70E89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F39-04FF-4509-8E43-DBBEC2B5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359-216A-4455-A9CC-38AF9B57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633-5204-4812-B8F6-2FDD50DB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D41-4749-4CEA-AF19-3269682F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49A-6780-47D3-A00B-F7794FE3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D66-AADB-4470-8EFA-1449B86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F98-0E80-471A-8C3C-88B9618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146-E30B-42C9-9465-46B24C1F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906-DB3F-4327-9C2D-3F3E19D4A7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gif"/><Relationship Id="rId4" Type="http://schemas.openxmlformats.org/officeDocument/2006/relationships/image" Target="../media/image20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image" Target="../media/image36.jpeg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0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7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21.jpeg"/><Relationship Id="rId4" Type="http://schemas.openxmlformats.org/officeDocument/2006/relationships/slide" Target="slide6.xml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790560" cy="1200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1581120" cy="162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4305240" y="2800440"/>
            <a:ext cx="3924360" cy="154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343400" y="4591080"/>
            <a:ext cx="3772080" cy="196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33520" y="5943600"/>
            <a:ext cx="44481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086440" y="1600200"/>
            <a:ext cx="1009440" cy="11905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438280" y="533520"/>
            <a:ext cx="4648320" cy="990360"/>
            <a:chOff x="2438280" y="533520"/>
            <a:chExt cx="4648320" cy="990360"/>
          </a:xfrm>
        </p:grpSpPr>
        <p:sp>
          <p:nvSpPr>
            <p:cNvPr id="48" name=""/>
            <p:cNvSpPr/>
            <p:nvPr/>
          </p:nvSpPr>
          <p:spPr>
            <a:xfrm>
              <a:off x="2895480" y="609480"/>
              <a:ext cx="2819520" cy="83772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095880" y="533520"/>
              <a:ext cx="9907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438280" y="609480"/>
              <a:ext cx="396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新课导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8494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38280" y="533520"/>
            <a:ext cx="4648320" cy="990360"/>
            <a:chOff x="2438280" y="533520"/>
            <a:chExt cx="4648320" cy="990360"/>
          </a:xfrm>
        </p:grpSpPr>
        <p:sp>
          <p:nvSpPr>
            <p:cNvPr id="94" name=""/>
            <p:cNvSpPr/>
            <p:nvPr/>
          </p:nvSpPr>
          <p:spPr>
            <a:xfrm>
              <a:off x="2895480" y="609480"/>
              <a:ext cx="2819520" cy="83772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6095880" y="533520"/>
              <a:ext cx="9907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438280" y="609480"/>
              <a:ext cx="396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教学目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3611520"/>
            <a:ext cx="2589120" cy="581400"/>
            <a:chOff x="1143000" y="3611520"/>
            <a:chExt cx="2589120" cy="58140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1143000" y="3711600"/>
              <a:ext cx="8064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332080" y="36115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过程与方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905120" y="43419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合具体情境，初步感受统计推断的合理性，进一步体会概率与统计之间的联系及概率的广泛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62080" y="1751040"/>
            <a:ext cx="2588760" cy="581400"/>
            <a:chOff x="1162080" y="1751040"/>
            <a:chExt cx="2588760" cy="58140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162080" y="1851120"/>
              <a:ext cx="8060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350800" y="175104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知识与能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873080" y="2482920"/>
            <a:ext cx="62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历试验、统计等活动，在活动中发展学生的合作交流的意识和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017880"/>
            <a:ext cx="6933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具体情境使学生养成乐于接触社会环境中的数学信息，乐于用数学思维去思考生活中的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838080"/>
            <a:ext cx="4648320" cy="990720"/>
            <a:chOff x="2438280" y="838080"/>
            <a:chExt cx="4648320" cy="990720"/>
          </a:xfrm>
        </p:grpSpPr>
        <p:sp>
          <p:nvSpPr>
            <p:cNvPr id="107" name=""/>
            <p:cNvSpPr/>
            <p:nvPr/>
          </p:nvSpPr>
          <p:spPr>
            <a:xfrm>
              <a:off x="2895480" y="914400"/>
              <a:ext cx="2819520" cy="8380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095880" y="838080"/>
              <a:ext cx="990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438280" y="914400"/>
              <a:ext cx="396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教学目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346040" y="2255760"/>
            <a:ext cx="3564360" cy="581400"/>
            <a:chOff x="1346040" y="2255760"/>
            <a:chExt cx="3564360" cy="58140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1346040" y="2355840"/>
              <a:ext cx="8064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778840" y="225576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情感态度与价值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003320" y="5883120"/>
            <a:ext cx="6692760" cy="438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505480" y="466740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438280" y="838080"/>
            <a:ext cx="4648320" cy="990720"/>
            <a:chOff x="2438280" y="838080"/>
            <a:chExt cx="4648320" cy="990720"/>
          </a:xfrm>
        </p:grpSpPr>
        <p:sp>
          <p:nvSpPr>
            <p:cNvPr id="116" name=""/>
            <p:cNvSpPr/>
            <p:nvPr/>
          </p:nvSpPr>
          <p:spPr>
            <a:xfrm>
              <a:off x="2895480" y="914400"/>
              <a:ext cx="2819520" cy="8380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6095880" y="838080"/>
              <a:ext cx="990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438280" y="914400"/>
              <a:ext cx="396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教学重难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143000" y="2284560"/>
            <a:ext cx="2264040" cy="581400"/>
            <a:chOff x="1143000" y="2284560"/>
            <a:chExt cx="2264040" cy="58140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143000" y="2384640"/>
              <a:ext cx="8064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251080" y="22845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教学重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905120" y="3060720"/>
            <a:ext cx="61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一步深刻领会用试验频率来估算概率的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4265640"/>
            <a:ext cx="2263320" cy="581400"/>
            <a:chOff x="1219320" y="4265640"/>
            <a:chExt cx="2263320" cy="581400"/>
          </a:xfrm>
        </p:grpSpPr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1219320" y="4365720"/>
              <a:ext cx="8060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326680" y="42656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教学难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057400" y="49975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实际问题的分析，并体会用试验步骤来估算概率的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1600200"/>
            <a:ext cx="70102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收集和分析数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计英语教科书中任一部分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字母及空格出现的频率（分组合作完成，每人找其中一个字母的出现频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统计每一个字母出现的次数和所有字母出现的总次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字母出现的频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字母按出现的频率从小到大的顺序排列出。（学生按所查字母出现频率从大到小回答，老师在黑板上写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现频率最高的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出现频率较低的字母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95280" y="380880"/>
            <a:ext cx="2742840" cy="1218960"/>
            <a:chOff x="1295280" y="380880"/>
            <a:chExt cx="2742840" cy="1218960"/>
          </a:xfrm>
        </p:grpSpPr>
        <p:sp>
          <p:nvSpPr>
            <p:cNvPr id="129" name=""/>
            <p:cNvSpPr/>
            <p:nvPr/>
          </p:nvSpPr>
          <p:spPr>
            <a:xfrm>
              <a:off x="1872720" y="685440"/>
              <a:ext cx="216540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05800" y="685440"/>
              <a:ext cx="1587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1295280" y="380880"/>
              <a:ext cx="11548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58000" y="763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0920" y="83736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．结论的应用与解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90720" y="1752480"/>
          <a:ext cx="7695720" cy="4267080"/>
        </p:xfrm>
        <a:graphic>
          <a:graphicData uri="http://schemas.openxmlformats.org/drawingml/2006/table">
            <a:tbl>
              <a:tblPr/>
              <a:tblGrid>
                <a:gridCol w="699120"/>
                <a:gridCol w="699840"/>
                <a:gridCol w="699840"/>
                <a:gridCol w="699120"/>
                <a:gridCol w="699840"/>
                <a:gridCol w="699840"/>
                <a:gridCol w="699480"/>
                <a:gridCol w="699840"/>
                <a:gridCol w="699840"/>
                <a:gridCol w="699120"/>
                <a:gridCol w="699840"/>
              </a:tblGrid>
              <a:tr h="85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17510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空格键为什么要设计在键盘的下方正中央位置？出现频率高的字母一般放在哪里？出现频率低的字母一般放在哪里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46465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答：键盘上字母的设计，既考虑手指移动的灵活特征，又考虑到各个键的使用频率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1447920" cy="906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 rot="1948200">
            <a:off x="3048120" y="5331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828800" y="3200400"/>
            <a:ext cx="119376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 rot="20958000">
            <a:off x="5943600" y="3009960"/>
            <a:ext cx="762120" cy="1333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6149"/>
          <p:cNvSpPr/>
          <p:nvPr/>
        </p:nvSpPr>
        <p:spPr>
          <a:xfrm>
            <a:off x="1295280" y="1568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字母的作用是用于书面表达，这些字母一样重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150"/>
          <p:cNvSpPr/>
          <p:nvPr/>
        </p:nvSpPr>
        <p:spPr>
          <a:xfrm>
            <a:off x="1393920" y="4570560"/>
            <a:ext cx="675936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在通常的书面表达中各字母出现的概率各是多少？ 哪些字母出现的概率较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 flipH="1">
            <a:off x="1219320" y="3200400"/>
            <a:ext cx="2133360" cy="647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2590920" y="609480"/>
            <a:ext cx="6248160" cy="2895840"/>
            <a:chOff x="2590920" y="609480"/>
            <a:chExt cx="6248160" cy="2895840"/>
          </a:xfrm>
        </p:grpSpPr>
        <p:sp>
          <p:nvSpPr>
            <p:cNvPr id="146" name=""/>
            <p:cNvSpPr/>
            <p:nvPr/>
          </p:nvSpPr>
          <p:spPr>
            <a:xfrm>
              <a:off x="2590920" y="609480"/>
              <a:ext cx="6248160" cy="2895840"/>
            </a:xfrm>
            <a:prstGeom prst="cloudCallout">
              <a:avLst>
                <a:gd name="adj1" fmla="val -62245"/>
                <a:gd name="adj2" fmla="val 3393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6148"/>
            <p:cNvSpPr/>
            <p:nvPr/>
          </p:nvSpPr>
          <p:spPr>
            <a:xfrm>
              <a:off x="3886200" y="914400"/>
              <a:ext cx="3962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为什么键盘上的字母不按照字母表的顺序排列呢？如果那样不是更便于记忆各字母的位置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371600" y="685800"/>
            <a:ext cx="1447560" cy="685800"/>
            <a:chOff x="1371600" y="685800"/>
            <a:chExt cx="1447560" cy="685800"/>
          </a:xfrm>
        </p:grpSpPr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1371600" y="685800"/>
              <a:ext cx="1396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371600" y="685800"/>
              <a:ext cx="1447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99cc00"/>
                  </a:solidFill>
                  <a:latin typeface="Arial"/>
                  <a:ea typeface="迷你简长艺"/>
                </a:rPr>
                <a:t>想一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 rot="20007600">
            <a:off x="533160" y="4648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 rot="20958000">
            <a:off x="5791320" y="2705040"/>
            <a:ext cx="761760" cy="1333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7171"/>
          <p:cNvSpPr/>
          <p:nvPr/>
        </p:nvSpPr>
        <p:spPr>
          <a:xfrm>
            <a:off x="1219320" y="730080"/>
            <a:ext cx="72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中宋"/>
              </a:rPr>
              <a:t>合作与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对英语教科书某段字母进行统计，完成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95440" y="2057400"/>
          <a:ext cx="8243640" cy="2451240"/>
        </p:xfrm>
        <a:graphic>
          <a:graphicData uri="http://schemas.openxmlformats.org/drawingml/2006/table">
            <a:tbl>
              <a:tblPr/>
              <a:tblGrid>
                <a:gridCol w="825480"/>
                <a:gridCol w="822240"/>
                <a:gridCol w="825480"/>
                <a:gridCol w="825480"/>
                <a:gridCol w="820800"/>
                <a:gridCol w="825480"/>
                <a:gridCol w="825480"/>
                <a:gridCol w="822240"/>
                <a:gridCol w="825480"/>
                <a:gridCol w="82548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c0616"/>
                          </a:solidFill>
                          <a:latin typeface="Arial"/>
                        </a:rPr>
                        <a:t>字母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c0616"/>
                          </a:solidFill>
                          <a:latin typeface="Arial"/>
                        </a:rPr>
                        <a:t>频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c0616"/>
                          </a:solidFill>
                          <a:latin typeface="Arial"/>
                        </a:rPr>
                        <a:t>字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c0616"/>
                          </a:solidFill>
                          <a:latin typeface="Arial"/>
                        </a:rPr>
                        <a:t>频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c0616"/>
                          </a:solidFill>
                          <a:latin typeface="Arial"/>
                        </a:rPr>
                        <a:t>字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空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c0616"/>
                          </a:solidFill>
                          <a:latin typeface="Arial"/>
                        </a:rPr>
                        <a:t>频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Box 7504"/>
          <p:cNvSpPr/>
          <p:nvPr/>
        </p:nvSpPr>
        <p:spPr>
          <a:xfrm>
            <a:off x="1219320" y="4648320"/>
            <a:ext cx="7391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根据字母的频率由大到小把各字母排列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------------------------------------------------------------------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244"/>
          <p:cNvSpPr/>
          <p:nvPr/>
        </p:nvSpPr>
        <p:spPr>
          <a:xfrm>
            <a:off x="1600200" y="5257800"/>
            <a:ext cx="660096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空格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,  E,T, O,A,N,I,R,S,H,F,L,C,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U,M,P,Y,W,G,B,V,K,X,J,Q,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0246"/>
          <p:cNvSpPr/>
          <p:nvPr/>
        </p:nvSpPr>
        <p:spPr>
          <a:xfrm>
            <a:off x="1523880" y="1397160"/>
            <a:ext cx="6553440" cy="1117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根据你的统计说明为什么“空格”   健设计在键盘的下方中央且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247"/>
          <p:cNvSpPr/>
          <p:nvPr/>
        </p:nvSpPr>
        <p:spPr>
          <a:xfrm>
            <a:off x="1523880" y="4648320"/>
            <a:ext cx="48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通过学习谈谈你的收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371600" y="3048120"/>
            <a:ext cx="1193760" cy="1371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400800" y="53341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400800" y="51436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6477120" y="51436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6324480" y="51436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971800" y="3367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因为它的使用频率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矩形 2051" descr=""/>
          <p:cNvPicPr/>
          <p:nvPr/>
        </p:nvPicPr>
        <p:blipFill>
          <a:blip r:embed="rId2"/>
          <a:stretch/>
        </p:blipFill>
        <p:spPr>
          <a:xfrm>
            <a:off x="646200" y="380988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矩形 2054" descr=""/>
          <p:cNvPicPr/>
          <p:nvPr/>
        </p:nvPicPr>
        <p:blipFill>
          <a:blip r:embed="rId3"/>
          <a:stretch/>
        </p:blipFill>
        <p:spPr>
          <a:xfrm>
            <a:off x="3686040" y="3886200"/>
            <a:ext cx="5077080" cy="2133720"/>
          </a:xfrm>
          <a:prstGeom prst="rect">
            <a:avLst/>
          </a:prstGeom>
          <a:ln w="0">
            <a:noFill/>
          </a:ln>
        </p:spPr>
      </p:pic>
      <p:pic>
        <p:nvPicPr>
          <p:cNvPr id="53" name="矩形 2052" descr=""/>
          <p:cNvPicPr/>
          <p:nvPr/>
        </p:nvPicPr>
        <p:blipFill>
          <a:blip r:embed="rId4"/>
          <a:stretch/>
        </p:blipFill>
        <p:spPr>
          <a:xfrm>
            <a:off x="1295280" y="990720"/>
            <a:ext cx="3313080" cy="2305080"/>
          </a:xfrm>
          <a:prstGeom prst="rect">
            <a:avLst/>
          </a:prstGeom>
          <a:ln w="0">
            <a:noFill/>
          </a:ln>
        </p:spPr>
      </p:pic>
      <p:pic>
        <p:nvPicPr>
          <p:cNvPr id="54" name="矩形 2055" descr=""/>
          <p:cNvPicPr/>
          <p:nvPr/>
        </p:nvPicPr>
        <p:blipFill>
          <a:blip r:embed="rId5"/>
          <a:stretch/>
        </p:blipFill>
        <p:spPr>
          <a:xfrm>
            <a:off x="4608360" y="1066680"/>
            <a:ext cx="324036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514600" y="1630440"/>
            <a:ext cx="4327560" cy="263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5911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键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286000" y="838080"/>
            <a:ext cx="5257440" cy="990720"/>
            <a:chOff x="2286000" y="838080"/>
            <a:chExt cx="5257440" cy="990720"/>
          </a:xfrm>
        </p:grpSpPr>
        <p:sp>
          <p:nvSpPr>
            <p:cNvPr id="167" name=""/>
            <p:cNvSpPr/>
            <p:nvPr/>
          </p:nvSpPr>
          <p:spPr>
            <a:xfrm>
              <a:off x="2802960" y="914400"/>
              <a:ext cx="3188880" cy="8380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6423120" y="838080"/>
              <a:ext cx="11203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286000" y="914400"/>
              <a:ext cx="448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课堂小结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57400" y="2558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键盘上字母的排列顺序是按其使用频率的大小排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003320" y="5657760"/>
            <a:ext cx="6692760" cy="438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219320" y="4191120"/>
            <a:ext cx="876240" cy="1695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343400" y="4343400"/>
            <a:ext cx="2336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95280" y="1828440"/>
            <a:ext cx="693432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计算机上拼音输入法中输入同样的拼音所显示的一系列同音汉字，例如：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m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马吗玛妈嘛麻骂码抹杩蟆蚂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是按声调排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这些同音字是按照什么规律排列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209680" y="533520"/>
            <a:ext cx="5257440" cy="990360"/>
            <a:chOff x="2209680" y="533520"/>
            <a:chExt cx="5257440" cy="990360"/>
          </a:xfrm>
        </p:grpSpPr>
        <p:sp>
          <p:nvSpPr>
            <p:cNvPr id="176" name=""/>
            <p:cNvSpPr/>
            <p:nvPr/>
          </p:nvSpPr>
          <p:spPr>
            <a:xfrm>
              <a:off x="2726640" y="609480"/>
              <a:ext cx="3188880" cy="83772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6346800" y="533520"/>
              <a:ext cx="11203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209680" y="609480"/>
              <a:ext cx="448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随堂练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523880" y="48448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解：（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不是；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按照它们的使用频率的大小排列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33520" y="5638680"/>
            <a:ext cx="1079280" cy="903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4339"/>
          <p:cNvSpPr/>
          <p:nvPr/>
        </p:nvSpPr>
        <p:spPr>
          <a:xfrm>
            <a:off x="1523880" y="1293840"/>
            <a:ext cx="69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一个口袋里有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个黑球和若干个白球，如果不需倒出来，你怎么估计白球的数目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30765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解：做一个摸球小实验，看摸到黑球的频率是多少，从而估计到口袋中总球数，进而估计出白球的个数。当然此题方法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 flipH="1">
            <a:off x="457200" y="5334120"/>
            <a:ext cx="7391520" cy="1415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矩形 11267" descr=""/>
          <p:cNvPicPr/>
          <p:nvPr/>
        </p:nvPicPr>
        <p:blipFill>
          <a:blip r:embed="rId2"/>
          <a:stretch/>
        </p:blipFill>
        <p:spPr>
          <a:xfrm>
            <a:off x="1371600" y="2316240"/>
            <a:ext cx="6781680" cy="40845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1268"/>
          <p:cNvSpPr/>
          <p:nvPr/>
        </p:nvSpPr>
        <p:spPr>
          <a:xfrm>
            <a:off x="1504800" y="609480"/>
            <a:ext cx="664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老师要为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名女同学和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名男同学两两一对排座位，估计这两名男同学坐在一起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17960" y="1523880"/>
            <a:ext cx="539640" cy="762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2304"/>
          <p:cNvSpPr/>
          <p:nvPr/>
        </p:nvSpPr>
        <p:spPr>
          <a:xfrm>
            <a:off x="1317600" y="380880"/>
            <a:ext cx="714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动手做一做：在一张纸上画如图的三个同心圆，半径分别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2cm,4cm,6cm;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再用剪刀剪一些小的碎纸屑，把碎纸屑随机地撒在图形中，计算落在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A,B,C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三个区域的数量比，多次重复试验，你能发现这个比与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,A,B,C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的面积的关系吗？估计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A,B,C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的概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1"/>
          <p:cNvGrpSpPr/>
          <p:nvPr/>
        </p:nvGrpSpPr>
        <p:grpSpPr>
          <a:xfrm>
            <a:off x="4433760" y="3048120"/>
            <a:ext cx="4024440" cy="3657600"/>
            <a:chOff x="4433760" y="3048120"/>
            <a:chExt cx="4024440" cy="3657600"/>
          </a:xfrm>
        </p:grpSpPr>
        <p:grpSp>
          <p:nvGrpSpPr>
            <p:cNvPr id="189" name="Group 16"/>
            <p:cNvGrpSpPr/>
            <p:nvPr/>
          </p:nvGrpSpPr>
          <p:grpSpPr>
            <a:xfrm>
              <a:off x="4433760" y="3048120"/>
              <a:ext cx="4024440" cy="3657600"/>
              <a:chOff x="4433760" y="3048120"/>
              <a:chExt cx="4024440" cy="3657600"/>
            </a:xfrm>
          </p:grpSpPr>
          <p:grpSp>
            <p:nvGrpSpPr>
              <p:cNvPr id="190" name="Group 15"/>
              <p:cNvGrpSpPr/>
              <p:nvPr/>
            </p:nvGrpSpPr>
            <p:grpSpPr>
              <a:xfrm>
                <a:off x="4433760" y="3048120"/>
                <a:ext cx="4024440" cy="3657600"/>
                <a:chOff x="4433760" y="3048120"/>
                <a:chExt cx="4024440" cy="3657600"/>
              </a:xfrm>
            </p:grpSpPr>
            <p:grpSp>
              <p:nvGrpSpPr>
                <p:cNvPr id="191" name="Group 8"/>
                <p:cNvGrpSpPr/>
                <p:nvPr/>
              </p:nvGrpSpPr>
              <p:grpSpPr>
                <a:xfrm>
                  <a:off x="4433760" y="3048120"/>
                  <a:ext cx="4024440" cy="3657600"/>
                  <a:chOff x="4433760" y="3048120"/>
                  <a:chExt cx="4024440" cy="3657600"/>
                </a:xfrm>
              </p:grpSpPr>
              <p:sp>
                <p:nvSpPr>
                  <p:cNvPr id="192" name="椭圆 12293"/>
                  <p:cNvSpPr/>
                  <p:nvPr/>
                </p:nvSpPr>
                <p:spPr>
                  <a:xfrm>
                    <a:off x="4433760" y="3048120"/>
                    <a:ext cx="4024440" cy="3657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Shape 12292"/>
                  <p:cNvSpPr/>
                  <p:nvPr/>
                </p:nvSpPr>
                <p:spPr>
                  <a:xfrm>
                    <a:off x="5058000" y="3600360"/>
                    <a:ext cx="2777760" cy="2634840"/>
                  </a:xfrm>
                  <a:prstGeom prst="pi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椭圆 12294"/>
                  <p:cNvSpPr/>
                  <p:nvPr/>
                </p:nvSpPr>
                <p:spPr>
                  <a:xfrm>
                    <a:off x="5681880" y="4221000"/>
                    <a:ext cx="1526400" cy="1379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直接连接符 12296"/>
                <p:cNvSpPr/>
                <p:nvPr/>
              </p:nvSpPr>
              <p:spPr>
                <a:xfrm>
                  <a:off x="6445080" y="4911840"/>
                  <a:ext cx="2012760" cy="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直接连接符 12297"/>
                <p:cNvSpPr/>
                <p:nvPr/>
              </p:nvSpPr>
              <p:spPr>
                <a:xfrm>
                  <a:off x="6445080" y="4911840"/>
                  <a:ext cx="1180440" cy="688680"/>
                </a:xfrm>
                <a:prstGeom prst="line">
                  <a:avLst/>
                </a:prstGeom>
                <a:ln w="442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直接连接符 12298"/>
                <p:cNvSpPr/>
                <p:nvPr/>
              </p:nvSpPr>
              <p:spPr>
                <a:xfrm flipV="1">
                  <a:off x="6445080" y="4497840"/>
                  <a:ext cx="625680" cy="414000"/>
                </a:xfrm>
                <a:prstGeom prst="line">
                  <a:avLst/>
                </a:prstGeom>
                <a:ln w="442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Box 12299"/>
              <p:cNvSpPr/>
              <p:nvPr/>
            </p:nvSpPr>
            <p:spPr>
              <a:xfrm>
                <a:off x="7208280" y="4497840"/>
                <a:ext cx="105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ec0616"/>
                    </a:solidFill>
                    <a:latin typeface="Arial"/>
                  </a:rPr>
                  <a:t>6cm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12300"/>
              <p:cNvSpPr/>
              <p:nvPr/>
            </p:nvSpPr>
            <p:spPr>
              <a:xfrm rot="19634400">
                <a:off x="6242040" y="4217400"/>
                <a:ext cx="105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ec0616"/>
                    </a:solidFill>
                    <a:latin typeface="Arial"/>
                  </a:rPr>
                  <a:t>2cm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Box 12301"/>
              <p:cNvSpPr/>
              <p:nvPr/>
            </p:nvSpPr>
            <p:spPr>
              <a:xfrm rot="2036400">
                <a:off x="6855840" y="4976640"/>
                <a:ext cx="105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ec0616"/>
                    </a:solidFill>
                    <a:latin typeface="Arial"/>
                  </a:rPr>
                  <a:t>4cm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2305"/>
            <p:cNvSpPr/>
            <p:nvPr/>
          </p:nvSpPr>
          <p:spPr>
            <a:xfrm>
              <a:off x="4504680" y="44978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c0616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2306"/>
            <p:cNvSpPr/>
            <p:nvPr/>
          </p:nvSpPr>
          <p:spPr>
            <a:xfrm>
              <a:off x="5197680" y="48430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c0616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2307"/>
            <p:cNvSpPr/>
            <p:nvPr/>
          </p:nvSpPr>
          <p:spPr>
            <a:xfrm>
              <a:off x="5961960" y="48430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c0616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Shape 12309"/>
          <p:cNvSpPr/>
          <p:nvPr/>
        </p:nvSpPr>
        <p:spPr>
          <a:xfrm>
            <a:off x="5010120" y="375300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2310"/>
          <p:cNvSpPr/>
          <p:nvPr/>
        </p:nvSpPr>
        <p:spPr>
          <a:xfrm>
            <a:off x="6523200" y="5121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2311"/>
          <p:cNvSpPr/>
          <p:nvPr/>
        </p:nvSpPr>
        <p:spPr>
          <a:xfrm>
            <a:off x="5442120" y="41860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2312"/>
          <p:cNvSpPr/>
          <p:nvPr/>
        </p:nvSpPr>
        <p:spPr>
          <a:xfrm>
            <a:off x="7602480" y="382572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2313"/>
          <p:cNvSpPr/>
          <p:nvPr/>
        </p:nvSpPr>
        <p:spPr>
          <a:xfrm>
            <a:off x="5586480" y="54100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hape 12314"/>
          <p:cNvSpPr/>
          <p:nvPr/>
        </p:nvSpPr>
        <p:spPr>
          <a:xfrm>
            <a:off x="7026120" y="6202440"/>
            <a:ext cx="28764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2315"/>
          <p:cNvSpPr/>
          <p:nvPr/>
        </p:nvSpPr>
        <p:spPr>
          <a:xfrm>
            <a:off x="7315200" y="432900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十字形 12316"/>
          <p:cNvSpPr/>
          <p:nvPr/>
        </p:nvSpPr>
        <p:spPr>
          <a:xfrm>
            <a:off x="6091200" y="317664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十字形 12317"/>
          <p:cNvSpPr/>
          <p:nvPr/>
        </p:nvSpPr>
        <p:spPr>
          <a:xfrm>
            <a:off x="4794120" y="541008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十字形 12318"/>
          <p:cNvSpPr/>
          <p:nvPr/>
        </p:nvSpPr>
        <p:spPr>
          <a:xfrm>
            <a:off x="7531200" y="5049720"/>
            <a:ext cx="21564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十字形 12319"/>
          <p:cNvSpPr/>
          <p:nvPr/>
        </p:nvSpPr>
        <p:spPr>
          <a:xfrm>
            <a:off x="8034480" y="5553000"/>
            <a:ext cx="21564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十字形 12320"/>
          <p:cNvSpPr/>
          <p:nvPr/>
        </p:nvSpPr>
        <p:spPr>
          <a:xfrm>
            <a:off x="6594480" y="375300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十字形 12321"/>
          <p:cNvSpPr/>
          <p:nvPr/>
        </p:nvSpPr>
        <p:spPr>
          <a:xfrm>
            <a:off x="5802480" y="4689360"/>
            <a:ext cx="21564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十字形 12322"/>
          <p:cNvSpPr/>
          <p:nvPr/>
        </p:nvSpPr>
        <p:spPr>
          <a:xfrm>
            <a:off x="6738840" y="468936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十字形 12323"/>
          <p:cNvSpPr/>
          <p:nvPr/>
        </p:nvSpPr>
        <p:spPr>
          <a:xfrm>
            <a:off x="6162840" y="5842080"/>
            <a:ext cx="21564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hape 12324"/>
          <p:cNvSpPr/>
          <p:nvPr/>
        </p:nvSpPr>
        <p:spPr>
          <a:xfrm>
            <a:off x="6162840" y="432900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hape 12325"/>
          <p:cNvSpPr/>
          <p:nvPr/>
        </p:nvSpPr>
        <p:spPr>
          <a:xfrm>
            <a:off x="1658880" y="454176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hape 12326"/>
          <p:cNvSpPr/>
          <p:nvPr/>
        </p:nvSpPr>
        <p:spPr>
          <a:xfrm>
            <a:off x="2235240" y="42544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hape 12327"/>
          <p:cNvSpPr/>
          <p:nvPr/>
        </p:nvSpPr>
        <p:spPr>
          <a:xfrm>
            <a:off x="2019240" y="44704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hape 12328"/>
          <p:cNvSpPr/>
          <p:nvPr/>
        </p:nvSpPr>
        <p:spPr>
          <a:xfrm>
            <a:off x="1442880" y="5046840"/>
            <a:ext cx="287640" cy="215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hape 12329"/>
          <p:cNvSpPr/>
          <p:nvPr/>
        </p:nvSpPr>
        <p:spPr>
          <a:xfrm>
            <a:off x="1803240" y="4830840"/>
            <a:ext cx="28764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hape 12330"/>
          <p:cNvSpPr/>
          <p:nvPr/>
        </p:nvSpPr>
        <p:spPr>
          <a:xfrm>
            <a:off x="2522520" y="490212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hape 12331"/>
          <p:cNvSpPr/>
          <p:nvPr/>
        </p:nvSpPr>
        <p:spPr>
          <a:xfrm>
            <a:off x="2522520" y="454176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hape 12332"/>
          <p:cNvSpPr/>
          <p:nvPr/>
        </p:nvSpPr>
        <p:spPr>
          <a:xfrm>
            <a:off x="2882880" y="483084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hape 12333"/>
          <p:cNvSpPr/>
          <p:nvPr/>
        </p:nvSpPr>
        <p:spPr>
          <a:xfrm>
            <a:off x="2163600" y="5334120"/>
            <a:ext cx="287640" cy="215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十字形 12334"/>
          <p:cNvSpPr/>
          <p:nvPr/>
        </p:nvSpPr>
        <p:spPr>
          <a:xfrm>
            <a:off x="1730520" y="4325760"/>
            <a:ext cx="21564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十字形 12335"/>
          <p:cNvSpPr/>
          <p:nvPr/>
        </p:nvSpPr>
        <p:spPr>
          <a:xfrm>
            <a:off x="1514520" y="483084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十字形 12336"/>
          <p:cNvSpPr/>
          <p:nvPr/>
        </p:nvSpPr>
        <p:spPr>
          <a:xfrm>
            <a:off x="2235240" y="475776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十字形 12337"/>
          <p:cNvSpPr/>
          <p:nvPr/>
        </p:nvSpPr>
        <p:spPr>
          <a:xfrm>
            <a:off x="1803240" y="511812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十字形 12338"/>
          <p:cNvSpPr/>
          <p:nvPr/>
        </p:nvSpPr>
        <p:spPr>
          <a:xfrm>
            <a:off x="2163600" y="511812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十字形 12339"/>
          <p:cNvSpPr/>
          <p:nvPr/>
        </p:nvSpPr>
        <p:spPr>
          <a:xfrm>
            <a:off x="2666880" y="432576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十字形 12340"/>
          <p:cNvSpPr/>
          <p:nvPr/>
        </p:nvSpPr>
        <p:spPr>
          <a:xfrm>
            <a:off x="2090880" y="4110120"/>
            <a:ext cx="21564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十字形 12341"/>
          <p:cNvSpPr/>
          <p:nvPr/>
        </p:nvSpPr>
        <p:spPr>
          <a:xfrm>
            <a:off x="2522520" y="519120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十字形 12342"/>
          <p:cNvSpPr/>
          <p:nvPr/>
        </p:nvSpPr>
        <p:spPr>
          <a:xfrm>
            <a:off x="2882880" y="4614840"/>
            <a:ext cx="216000" cy="193680"/>
          </a:xfrm>
          <a:prstGeom prst="plus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343"/>
          <p:cNvSpPr/>
          <p:nvPr/>
        </p:nvSpPr>
        <p:spPr>
          <a:xfrm>
            <a:off x="1371600" y="4038480"/>
            <a:ext cx="1890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hape 12344"/>
          <p:cNvSpPr/>
          <p:nvPr/>
        </p:nvSpPr>
        <p:spPr>
          <a:xfrm>
            <a:off x="6883560" y="324972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90720" y="1441440"/>
            <a:ext cx="75438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初学键盘操作时，必须十分注意打字姿势。如果打字姿势不正确，就不能快速地输入，也容易疲劳。正确的姿势应做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坐姿要端正，腰要挺直，肩部放松，两脚自然平放于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手腕平直，两肘微垂，轻轻贴于腋下，手指弯曲自然适度，轻放在基本键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坐椅的高低应调至适应的位置，以便于手指击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2200" y="517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键盘操作的正确姿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099"/>
          <p:cNvSpPr/>
          <p:nvPr/>
        </p:nvSpPr>
        <p:spPr>
          <a:xfrm>
            <a:off x="1600200" y="2282760"/>
            <a:ext cx="47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100"/>
          <p:cNvSpPr/>
          <p:nvPr/>
        </p:nvSpPr>
        <p:spPr>
          <a:xfrm>
            <a:off x="1447920" y="730080"/>
            <a:ext cx="6707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键盘上的英文字母是按照字母顺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D - - -  -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次排列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矩形 4106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8588520" cy="3421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92564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键盘简介：键盘是电脑世界的笔，直接可以用键盘向电脑下命令。常用的键盘上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键，分别排在列在五个主要部分：主键盘区、功能键区、编辑键区、辅助键区、状态指示灯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1600" y="838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认识键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163980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7543800" cy="632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 flipH="1">
            <a:off x="380520" y="2743200"/>
            <a:ext cx="752760" cy="2895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35053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114800"/>
            <a:ext cx="7086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主键盘区：它是键盘的主要组成部分，该键盘区包括了数字键区、常用运算符以及标点符号键，除此之外还有几个必要的控制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95680" y="3048120"/>
            <a:ext cx="2438640" cy="1066680"/>
          </a:xfrm>
          <a:prstGeom prst="wedgeRoundRectCallout">
            <a:avLst>
              <a:gd name="adj1" fmla="val 98240"/>
              <a:gd name="adj2" fmla="val -18288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回车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每按一次该键，将换到下一行首输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3276720"/>
            <a:ext cx="2209680" cy="1676160"/>
          </a:xfrm>
          <a:prstGeom prst="wedgeEllipseCallout">
            <a:avLst>
              <a:gd name="adj1" fmla="val -3018"/>
              <a:gd name="adj2" fmla="val -115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换档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打字键区共有两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2971800"/>
            <a:ext cx="2590920" cy="1981080"/>
          </a:xfrm>
          <a:prstGeom prst="wedgeRoundRectCallout">
            <a:avLst>
              <a:gd name="adj1" fmla="val 62865"/>
              <a:gd name="adj2" fmla="val -6811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空格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键盘上最长的条形键。每按一次该键，将在当前光标的位置上空出一个字符的位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029200"/>
            <a:ext cx="5715000" cy="1600200"/>
          </a:xfrm>
          <a:prstGeom prst="wedgeRoundRectCallout">
            <a:avLst>
              <a:gd name="adj1" fmla="val -37333"/>
              <a:gd name="adj2" fmla="val -257837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大写字母锁定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打字键区左边。该键是一个开关键，用来转换字母大小写状态。每按一次该键，键盘右上角第二个小灯会由不亮变成发亮，或由发亮变成不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380880"/>
            <a:ext cx="3962520" cy="1371600"/>
          </a:xfrm>
          <a:prstGeom prst="wedgeRoundRectCallout">
            <a:avLst>
              <a:gd name="adj1" fmla="val 74638"/>
              <a:gd name="adj2" fmla="val -38078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退格删除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打字键区的右上角。每按一次该键，将删除当前光标位置的前一个字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flipH="1">
            <a:off x="6248520" y="4952880"/>
            <a:ext cx="1218960" cy="152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keyboard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480" y="205740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76920" y="1981080"/>
            <a:ext cx="4114800" cy="2900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71600" y="7621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前国内台计算机普遍采用的是标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键盘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键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51055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104</a:t>
            </a:r>
            <a:r>
              <a:rPr b="0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键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5135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101</a:t>
            </a:r>
            <a:r>
              <a:rPr b="0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键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33520" y="5638680"/>
            <a:ext cx="1079280" cy="903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eyboard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5943600" cy="2819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71800" y="1676520"/>
            <a:ext cx="0" cy="609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219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功能键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638680" y="4495320"/>
            <a:ext cx="0" cy="838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410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光标控制键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14600" y="4419720"/>
            <a:ext cx="0" cy="9144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55627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主键盘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162920" y="35812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80240" y="2514600"/>
            <a:ext cx="549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数字键盘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8640" y="152280"/>
            <a:ext cx="2371680" cy="2133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河北远东博克文化传播有限公司</cp:lastModifiedBy>
  <dcterms:modified xsi:type="dcterms:W3CDTF">2009-07-08T04:25:04Z</dcterms:modified>
  <cp:revision>13</cp:revision>
  <dc:subject/>
  <dc:title>25.4 键盘上字母的排列规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120000000000010250600207f7000400038000</vt:lpwstr>
  </property>
  <property fmtid="{D5CDD505-2E9C-101B-9397-08002B2CF9AE}" pid="3" name="Version">
    <vt:r8>1</vt:r8>
  </property>
</Properties>
</file>